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EBD6F-08E7-4877-B3A0-C343B4CBBD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615EA-B942-4E3C-8910-8EBA117B5D6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B13F0-EB0B-45F7-BEA3-87C3CD64511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24AE7-2069-41AA-B58C-AF433D8084F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6AEDB-8300-4186-95B3-30B40D4533E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894E3-59EE-4EC5-BD3E-96D7EE563BC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AA8E1-DC7B-482F-82F7-B7B8B94B834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8028E-CDA3-491B-A55C-488B7898A85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B10BB-1182-45D2-94AF-18FEA5E6737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4AAE8-6413-4033-BA0B-644B43D4686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46E2F-F30D-4AD4-B253-EC8EE722512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7AB2-DFAF-4207-A108-6676095FD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85DD-14DC-4F7C-A8BD-7E4BEA080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3CE3-BE5B-448C-B042-D750323B8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4F80-6885-4791-AD9F-67A20F662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6290-2CC3-4991-91E0-CC035D050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2908-6061-4DB9-9C35-6C03A1FD0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2271-61ED-4535-B552-3A81D54B9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47DD-3995-4BF7-8A11-CEC95A10E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3AF5-A8E8-4169-8CA0-BA2D4E66B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CD02-191C-446F-AFFB-82BEE5BE4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B4DD-50E5-4E17-B94E-A8074E948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D2BF-3487-4FC2-A68B-41CD1B756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5F691-1612-4B8B-81FA-70157957A4D8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4-H Study of Positive Youth Development - Toolk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D108C-32B2-440B-B39E-6C990BFD1D6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3680" y="509760"/>
            <a:ext cx="8756640" cy="299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ff"/>
                </a:solidFill>
                <a:latin typeface="Arial"/>
              </a:rPr>
              <a:t>THE 4-H STUDY OF </a:t>
            </a:r>
            <a:br>
              <a:rPr sz="4400"/>
            </a:br>
            <a:r>
              <a:rPr b="1" lang="en-US" sz="4400" spc="-1" strike="noStrike">
                <a:solidFill>
                  <a:srgbClr val="00ffff"/>
                </a:solidFill>
                <a:latin typeface="Arial"/>
              </a:rPr>
              <a:t>POSITIVE YOUTH DEVELOPMENT:</a:t>
            </a:r>
            <a:br>
              <a:rPr sz="4400"/>
            </a:b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5560" y="3962160"/>
            <a:ext cx="821844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ichard M. Lerner, Jacqueline V. Lerner, Erin Phelps, and Colleagu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stitute for Applied Research in Youth 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Tufts University, Medford, 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1F89D-D34D-44BE-8B8A-D77C7B665DF4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4-H Study of Positive Youth Development - Toolki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18A20-DEC1-4134-97A7-C0A8B4D1140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7760" y="66312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ff"/>
                </a:solidFill>
                <a:latin typeface="Arial"/>
              </a:rPr>
              <a:t>Design of the 4-H Study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9600" y="1547640"/>
            <a:ext cx="8345520" cy="479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e are longitudinally studying these new students as we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minimum of three times of measurement are needed to judge developmental change.  We are reporting for the first time the results from three times of tes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all, we have sampled more than 6,000 youth from 37 states and more than 2,000 parent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8FDA5-B5C6-46E0-93D4-13E97B253E75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4-H Study of Positive Youth Development - Toolki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98EBB-6906-4AC4-9DE0-CAD9EFA340E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47760" y="471600"/>
            <a:ext cx="8229600" cy="69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ff"/>
                </a:solidFill>
                <a:latin typeface="Arial"/>
              </a:rPr>
              <a:t>Design of the 4-H Study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9600" y="1278000"/>
            <a:ext cx="8345520" cy="52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r comparative purposes, our sample includes 4-H youth and non-4-H youth.  These groups of youth differ in several w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 judge the differences between 4-H youth and other youth we need to create a matched subsa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owever, this limits our ability to apply the findings to all 4-H you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256CB-28B2-45A9-BD58-6CA03B394EB6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4-H Study of Positive Youth Development - Toolki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56BCC-DFD0-4BCC-B992-9CE923310B4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1880" y="549360"/>
            <a:ext cx="8229600" cy="8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ff"/>
                </a:solidFill>
                <a:latin typeface="Arial"/>
              </a:rPr>
              <a:t>Key Principles of the PYD Perspective</a:t>
            </a: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46200" y="1707840"/>
            <a:ext cx="802944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11920" indent="-51192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cause of the potential to change, all youth have strength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19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11920" indent="-51192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l contexts have strengths as well.  These strengths are resources that may be used to promote positive youth develop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19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11920" indent="-51192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se resources are termed “developmental assets”:  They are the “social nutrients” needed for healthy develop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7C25D-9EBE-4CDD-A57E-7355B6E9F9DE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4-H Study of Positive Youth Development - Toolki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F2623-9A95-44DA-ACB0-A8B286DC698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1880" y="549360"/>
            <a:ext cx="8229600" cy="8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ff"/>
                </a:solidFill>
                <a:latin typeface="Arial"/>
              </a:rPr>
              <a:t>Key Principles of the PYD Perspective</a:t>
            </a: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46200" y="1781280"/>
            <a:ext cx="8029440" cy="427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buClr>
                <a:srgbClr val="ffffff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rengths of youth are combined with ecological developmental assets. Then, these assets are found in families, schools, faith institutions, youth serving organizations, and the community more generall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buClr>
                <a:srgbClr val="ffffff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the positive, healthy development may occu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buClr>
                <a:srgbClr val="ffffff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 may be optimistic that it is in our power to promote positive development among all yout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D61D7-E1E4-4BD7-9FA1-E4C5C112C664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4-H Study of Positive Youth Development - Toolki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B0543-179E-40E6-B9A3-349703080EB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ff"/>
                </a:solidFill>
                <a:latin typeface="Arial"/>
              </a:rPr>
              <a:t>Three Key Hypotheses of the 4-H Study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ypothesis 1.  PYD is constituted by “Five Cs: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615960" y="2468520"/>
            <a:ext cx="2955960" cy="32641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 anchorCtr="1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The Five 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et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fid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rac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n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AutoShape 5"/>
          <p:cNvSpPr/>
          <p:nvPr/>
        </p:nvSpPr>
        <p:spPr>
          <a:xfrm rot="16200000">
            <a:off x="4052880" y="3333240"/>
            <a:ext cx="960120" cy="690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5378400" y="3313080"/>
            <a:ext cx="2421000" cy="52056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ontrib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FFAB8-C8A2-4EEF-90A0-0F430BF63DC8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4-H Study of Positive Youth Development - Toolki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758E4-6E43-4651-A435-1108A5B1889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3320" y="549000"/>
            <a:ext cx="8488440" cy="103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ff"/>
                </a:solidFill>
                <a:latin typeface="Arial"/>
              </a:rPr>
              <a:t>The Five Cs are Related to the </a:t>
            </a:r>
            <a:br>
              <a:rPr sz="4400"/>
            </a:br>
            <a:r>
              <a:rPr b="1" lang="en-US" sz="4400" spc="-1" strike="noStrike">
                <a:solidFill>
                  <a:srgbClr val="00ffff"/>
                </a:solidFill>
                <a:latin typeface="Arial"/>
              </a:rPr>
              <a:t>“Four Essential Elements”</a:t>
            </a:r>
            <a:r>
              <a:rPr b="1" lang="en-US" sz="4400" spc="-1" strike="noStrike" baseline="30000">
                <a:solidFill>
                  <a:srgbClr val="00ffff"/>
                </a:solidFill>
                <a:latin typeface="Arial"/>
              </a:rPr>
              <a:t>*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70040" y="1904760"/>
            <a:ext cx="7805520" cy="4593960"/>
          </a:xfrm>
          <a:prstGeom prst="rect">
            <a:avLst/>
          </a:prstGeom>
          <a:noFill/>
          <a:ln w="0">
            <a:noFill/>
          </a:ln>
        </p:spPr>
        <p:txBody>
          <a:bodyPr lIns="137160" rIns="137160" tIns="228600" bIns="137160" anchor="t">
            <a:normAutofit/>
          </a:bodyPr>
          <a:p>
            <a:pPr marL="3430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The Cs of PY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The 4 Essential El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etenc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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STE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fidenc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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EPEND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necti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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LONG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racter &amp;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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NEROS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r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*As presented by Dr. Cathann Kress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D4AFB-A878-49FD-988D-C874953691C3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4-H Study of Positive Youth Development - Toolki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1D0C6-9A63-40D4-BB34-B3F1ABCA7B4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ff"/>
                </a:solidFill>
                <a:latin typeface="Arial"/>
              </a:rPr>
              <a:t>Three Key Hypotheses of the 4-H Study</a:t>
            </a: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85960" y="1393560"/>
            <a:ext cx="7488000" cy="479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ypothesis 2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ross adolescence, positive youth development occurs (that is, youth “thrive”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e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strengths of young people are aligned with the resources for healthy development (“developmental assets”) present in their communit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69A08-27B3-4158-91AB-22DB21FEC2B9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4-H Study of Positive Youth Development - Toolki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3B6E2-8C5B-4751-984E-1E2E61D02E3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ff"/>
                </a:solidFill>
                <a:latin typeface="Arial"/>
              </a:rPr>
              <a:t>Three Key Hypotheses of the 4-H Study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2640" y="1600200"/>
            <a:ext cx="7386840" cy="14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ypothesis 3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outh Development (YD) programs constitute key developmental assets promoting PY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609480" y="3429000"/>
            <a:ext cx="7848720" cy="272556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7160" rIns="137160" tIns="137160" bIns="137160" anchor="t">
            <a:no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YD programs are marked by the presence of the “Big 3,” that i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8fa3c"/>
                </a:solidFill>
                <a:latin typeface="Arial"/>
              </a:rPr>
              <a:t>Sustained, positive adult-youth relations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8fa3c"/>
                </a:solidFill>
                <a:latin typeface="Arial"/>
              </a:rPr>
              <a:t>Skill building activities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8fa3c"/>
                </a:solidFill>
                <a:latin typeface="Arial"/>
              </a:rPr>
              <a:t>and Youth participation and leadershi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0A5C6-86E9-47E7-9FD8-EFFB9524661D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4-H Study of Positive Youth Development - Toolki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00926-656F-44EF-B231-C2A15A9BC7E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Items for discussion:</a:t>
            </a: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te and participant recruit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ining and support from Tuf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nancial support for participating coun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m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por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eds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&lt;place where faculty and staff can access materials&gt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5074B-E3E7-4589-869A-0611D793BCB5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4-H Study of Positive Youth Development - Toolki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A589E-F70D-4921-912B-196574009BB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Site and Participant Recruitment</a:t>
            </a: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rget age – 9-12th graders, focus on 1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grad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-H and non-4-H you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tner who will work with you to secure parent consent and administer the surv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ent consent 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-line option is prefer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 Tufts find them in a yea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R IDEAS?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E2FD6-51F1-41DA-A0A9-27AA00585E34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4-H Study of Positive Youth Development - Toolki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DE545-90C6-47F0-BF69-C6B1A4D99BD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Tufts Suppor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ntra sessions for data collectors – &lt;date&gt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olkit of materials including: sample IRB forms, correspondence, news releases and other re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one and e-mail for ques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sts of producing the data collection materials can be reimburs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6D930-FA27-416C-80E3-D10C25DD7380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4-H Study of Positive Youth Development - Toolki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F6928-D955-42F4-81B8-FCC99AD1C7D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Money $$$$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-Stud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lt;$ incentive from your state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lt;location of form to fill out to receive money from state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st-Stud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ank-you gift from Tuft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ly for face-to-face data coll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0 gift credit with Amazon.c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lti-year sites will be paid $50 by Tuf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ly for 2nd year or beyo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ly for face-to-face settin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 any number of surveys submit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FC5B4-37F3-42B1-8578-0595AA24BCAC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4-H Study of Positive Youth Development - Toolki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8A25F-2F1A-439F-B23B-EDA9D94AC5B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Data Collection Expense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ly available for face-to-face data collecti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eep track of copies produced and request reimbursement for the following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# Student Questionnaires &lt;40&gt; pages @$.05 per p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# Parent Consent Forms – 4 pages @ $.05 per p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# Youth Assent Forms – 1 page @$.05 per p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# Parent letters – 2 pages $.05 per p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# Additional printing – itemize @ $.05 per p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postage expenses will be reimbursed by Tuft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other expenses will be reimbursed without prior approval from Tuf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756AF-9B1E-49D0-9BCC-0570D7905D9D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4-H Study of Positive Youth Development - Toolki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31F22-9D23-4B62-B92C-D4F3017C8BE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Timelin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mediately – site recruitment, eIR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mplates are ready: &lt;location where templates can be found&gt;, or on the National 4-H Brand Network web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&lt;established date&gt; – letter of permission, set dates for administration, request needed materi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&lt;established date&gt; – complete administration and submit res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ll 2010 – &lt;state&gt; res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72EB1-AB93-46F9-9BFB-EDD30B830D84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4-H Study of Positive Youth Development - Toolki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9F06A-1ABB-44DA-83E0-91539EB7CAD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Reporting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ll set up statewide program with &lt;coordinator&gt; as Team Leader and data collectors as Team Members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Scheduling function to show planned sites/dat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32067-5A5C-4F6E-BE75-DC9F5D951467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4-H Study of Positive Youth Development - Toolki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BF46D-A48C-42AD-9602-E1848BA4380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7760" y="549360"/>
            <a:ext cx="8229600" cy="69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ff"/>
                </a:solidFill>
                <a:latin typeface="Arial"/>
              </a:rPr>
              <a:t>Design of the 4-H Study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9600" y="1547640"/>
            <a:ext cx="834552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s is a longitudinal study:  Youth are followed across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ginning in 5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Grade, we are following some youth through 12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Grade (and we hope past high schoo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 adjust for youth who drop out of the study and to maintain our ability to conduct powerful statistical analyses, we have added new students each y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30T13:11:43Z</dcterms:created>
  <dc:creator>Temp</dc:creator>
  <dc:description/>
  <dc:language>en-US</dc:language>
  <cp:lastModifiedBy>bnsgy9</cp:lastModifiedBy>
  <dcterms:modified xsi:type="dcterms:W3CDTF">2009-09-21T16:30:59Z</dcterms:modified>
  <cp:revision>77</cp:revision>
  <dc:subject/>
  <dc:title>THE 4-H STUDY OF  POSITIVE YOUTH DEVELOPMENT: </dc:title>
</cp:coreProperties>
</file>